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CEC2-EA39-4ACB-8A7E-F3ABD2A8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BC49-6201-4980-9A01-2EB43E2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BAB8-5C8D-40CB-9C06-5AB81308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87B8-0A1E-4FE9-BEBF-1D96C3D0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1A88-1FBC-43C7-B866-9498D6BC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AB52-ABC5-48AA-9DC4-217E2EE3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1C54-9600-4C83-BCCD-0711B67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AA44-C7FD-4D43-8735-2B1EC80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D4CD-1395-45AD-89C8-136E628F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08AD-E834-41D7-B0C3-BC1E168F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C2D-B972-4A2A-971A-FE180C1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B4C3-FA58-4596-9F02-A24DF029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4865-3956-4245-97DD-342A06C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ED7B-8CA3-4B23-9C86-E4D3359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32E3-204A-4C38-A4F2-ADB03068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E4C9-5DA8-43BA-98AA-8277A3F6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8CAD-D9A9-4A2C-8F9D-7A7851C0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C083-54B6-4900-A7F6-DAF94DA5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2771-17D6-47EB-A8BA-A0CF89F5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FE2D-F3FE-4334-9296-1661F2D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C0CE-A9CF-486D-A0FC-B40C1E53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1BED-7ECF-4DC5-A6FE-00CB1F0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5ABB-AA25-47D6-B620-AA028DE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2483-729B-44D9-8B4A-1364D252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498B-D04F-47C0-972D-950329A13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5E1B-BD5D-4D34-BE25-DD3B80FD6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HMU1tOSOys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KaPAZAO4IY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17XS-ZxFOY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eKzE1mahNs" TargetMode="External"/><Relationship Id="rId2" Type="http://schemas.openxmlformats.org/officeDocument/2006/relationships/hyperlink" Target="http://www.youtube.com/watch?v=IpfzaqIuR34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onsumer Responsibilities, Rights, and Protectionis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44953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HS Business Edu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Consumer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magazin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am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ranging from bottled iced teas to trave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s such as Consumer Reports and Consumers’ Research Magazine give detailed information about goods that have been tested and ra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at 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mo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e is one that offers a special buy on a new product or a product that is in seas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eld when consum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rc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down, such as after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e is a sale to clear out goods that are going ou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a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re no longer prof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, these sales make room for new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ss lea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dvertised products that sell at a loss to bring customers into a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 price is intended to attract more customers into the store to hopefully buy mo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fi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Shopping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pping lists cut down on unplanned buying of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u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ying is the act of making unplanned purchases and can ruin a consumer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why do you think most convenience store have candy and/or gum at the front of the st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lso save you money because you can decide in advance what to buy and how much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Labels and Warran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d a produc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you bu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d be surprised at what companies are required to state on the label by federal law – it might make you put the produc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tems come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ra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aning a writt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arant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manufacturer or distributor that states the conditions under which the product can be returned, replaced, or re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nsumer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2, Presid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hn F. Kenne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lined what he called the Consum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ll of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 bill stated that every person has four basic Consumer Righ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be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saf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be he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Be 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consumer, you have the right to receive accurat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Businesses are required to provide certa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tai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bout their produc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Drug companies must list the complete contents of every medici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have the right to choose from a wide variety of goods and services.  Businesses compete with each other to sell their products to consumers – competition provid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government has the power to use Antitrust laws to break up monopolies or keep them from form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he right to products that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.  Product Liability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gal respons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manufacturers have to make a safe product.  Federal laws ensure that clothing, food, toys, and other items will not harm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Tools and appliances must include safety devices for you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PSIA – Good or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Be He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who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products or services have a right to be heard.  You have the right to let the company know you’re not happy.  Businesses rely on custom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Buy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u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erson who selects, purchases, uses, and disposes of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uying goods and/or services, consumer must make 4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onsumer Rights Exte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years, three other rights were ad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have problems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consum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o Have Problems Corr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ducts don’t work properly after they’re purchased, consumers have the right for the products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Either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si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hich the product was bought or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ufactur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hich the product was made should fix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Consume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have the right to learn how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works.  You should know how to get the best value and satisfaction for your mone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usinesses might not operate in the best interest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u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might try a tactic know a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it and 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ales tactic in which buyers are tempted by an advertised bargain but are then persuaded to buy a more expensive item instea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rpet Cleaning S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s have a right to be treated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ect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.  You have the right to expect prompt delivery of goods or services that meet the standard of quality a business claims.  You also have the right to be served with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crim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basis of your race, gender, income, or 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onsumer Protection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ago, smart shoppers understood the Latin phras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veat emp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, “le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wa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 have changed, and the phrase that now guides consumer transaction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veat ven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, “le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wa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aws have been enacted to regulate and restrict business practices to preser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et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tect consumers.  These laws protect agains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hon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lers, unreasonable credit terms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sa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labe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du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Credit Protection Act:  Requires those who give credit to reveal all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s and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credit agree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Discrimination Laws:  Price discrimination is the act of charging more than one price for the sam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service in differ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 differ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ir Packaging and Labeling Act:  Requires manufacturers’ labels to truthfully list a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red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a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produ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ling-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When you buy something at a location that is not the seller’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ma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siness location, you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siness days to cancel contracts for most purcha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A Mary Kay “makeup”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uth-in-Advert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s:  Under these laws, advertising must be truthful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-dece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dvertisers must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ack up their cla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TC (Federal Trade Commission) regulates false advertising on the national level and has the power to issue a cease and desist ord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rders are legally binding orders to stop a practice that would mislead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What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onsumers have chosen what product to buy, consumers will decide to buy a Brand name or Generic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Name refers to the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” for a product or service produced by a particular compan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ers typically associ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brand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Name refers to plainly labeled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-br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s that are sol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ces than brand-name goo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ame quality as brand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Taste Test – Generic vs.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pping by Mail, Phone, Fax, and/or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TC has established rules to protect consumers shopping by mail, phone, fax and/or intern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ers must ship goods with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promise in their catalogs or advertisements.  If not time is stated, sellers must ship goods with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s after receiving an ord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ers must notify you of an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hipment and give you a postcard or other free means of responding to the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he right to cancel orders and get your money back if time limits are not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orm Commercial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laws that regulate commercial busines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UCC protects the economic interests of buyers and sellers in contracts.  It also regulates sal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ran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rranty:  Is explicitly stated (in writing or verbally) and specifies the conditions under which the product can be returned, replaced, or repa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rranty:  A purchase found to be defective within the warranty period will be repaired or replaced at no cost to the purchas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rranty:  Covers only certain parts of the product or requires the customer to bear some of the expense in case repairs are need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When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for many items change during different times of the year 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tp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planning can sometimes save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You’d probably save your business more money if you bought an Air Conditioner in the fall vs. the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Where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actors affect a consumer’s decision on where to sho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s of goods and services s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How Much to P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ari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pping is comparing the prices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peting brands or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do when making a big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the highest price doesn’t always mean the highes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o 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have to decide what a bargain is to them and can become a smart consumer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dvance.  Before making a purchase, a smart consumer should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vertis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onsum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b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 a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hopp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b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rra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Advertis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wise consumer, you must learn how to read ad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ill be helpful.  Most ads are one of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ertising attempts to convince consumers with facts and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ries to persuade buyers to choose a specific product because it is the best one for their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o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ertising appeals to peopl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it might suggest that if consumers buy a particular car, they will be pop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Emotional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Emotional 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oups of two, create two separate advertisements on a sheet of notebook paper for our new sports energy drink, “Hustle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vertisement should be a “rational” one and the other advertisement should be an “emotional”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3:15:29Z</dcterms:created>
  <dc:creator>Erin</dc:creator>
  <dc:description/>
  <dc:language>en-US</dc:language>
  <cp:lastModifiedBy>user</cp:lastModifiedBy>
  <dcterms:modified xsi:type="dcterms:W3CDTF">2012-03-06T14:20:01Z</dcterms:modified>
  <cp:revision>25</cp:revision>
  <dc:subject/>
  <dc:title>Consumer Responsibilities, Rights, and Protection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